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D2A-67F9-4C04-AB79-B3325F7D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4DD-4D05-4496-85CA-A0F9C9F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F8F08-4EEA-4C11-A339-E9947E0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624A6-7A82-4A69-8578-A576181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8064-398F-4FF9-87D2-08FC254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C17B3-A369-44D2-9961-C97DB8F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C654-32C6-4A49-B0F8-2A62CC58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78902-4002-4411-91EA-EDB339A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FFBA2-138A-41CF-9C56-6467ADE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72EF9-A283-4741-8307-ED81827F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6583-60A9-4568-B193-BD07F592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6DE2C-25A7-41FA-BC06-0945AA8C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B35-9E88-4A3B-90AE-13E51A37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1F5A1-BEFD-4198-B399-694B217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EB862-CF75-4E0D-9AC4-997FBD5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B965F-C2D2-4933-9479-5BCCC6CA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1BE3C-254F-49A7-ACDB-833B2A1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52FB9-057C-4B7A-97E0-90AF201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D1290-55E2-40C0-9E7D-2CAC2AA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0086F-C046-4746-8E4D-7A7E6A2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9C024-4F44-45C6-A668-FADACE4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7D6F1-5356-481D-AFBC-4562A98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22A4-BB3C-45DA-9C8D-426ECB7C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B28-E4FE-4E9C-BA36-C343A63C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47DD0-C142-46EC-9036-649E45C3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7349C-E358-48B3-A8EE-8A0B834C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A63E9-9AF7-44CC-9A3F-8A9DCA1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0BB7B-DBCC-4129-BEF1-787CDCC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DF20C-7918-4291-BB73-EA6FDA0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AC376-140C-455E-B469-8D7306C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D6763-AC6D-446A-8E36-486CBE5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87B23-074E-4763-BE2F-F6468C4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BAAB6-519C-445A-AA3E-9CC2253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63EC-79BE-4F07-8638-2D3A034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6ED-8771-4BEE-AA67-A72E43D8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D952-BBAF-443A-A0AC-9C77A0B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760D3-78F3-4DF5-9807-707A4C78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488A-9CF9-4C98-B22F-EA97FC79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B72F9-F493-4B3E-B902-2309CECF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CFEE-17EE-4CF2-BBA1-9087640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02DA7-0411-4D3F-B4DE-7A7D6E8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D2FE0-A4B9-4C4A-B339-700549C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CC1BE-CAFF-4441-AA80-CE72571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4B98A-F958-4D7A-AD2F-CF60F49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B4C59-B342-4F2D-90E1-06600DA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99E3-6A19-4FEA-8FDF-D38B4AA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1372D-B193-449B-BFD3-289E359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9FF67-9395-4DA7-BCA1-C2D7515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0300-3AAE-4847-A447-0EEA4D2C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BB6E6-7EEF-4E57-AC56-5D9C0791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66088-F52D-4EE4-B79B-E2BA68C0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2B4-4ECC-4571-BE15-1BE390CC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C598-D721-41A1-A162-6A1C198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E2D-D195-44FD-8DE0-675682F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B19B-340A-42D0-A7CD-4415BE5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102-7A28-4764-8A33-38ECCEC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8D5-AC1F-461B-82B6-3F57CB3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011-791A-4BA1-8BC9-F498C86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673E-9691-4D6E-A9B9-A0FF586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3ECA-6AD2-482A-A568-2A82BA9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DCB-B0FC-4CBD-8781-042B05AB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DC2A-9B30-42DC-8E09-29943CD5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845A-37E0-44A8-A093-519DADB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3269-4C3E-47C2-B613-34BC827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BAD8-B915-43B9-8329-1AB3A8C1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BD85-89CF-4DA7-B0C8-7A4AE44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DE3E-974B-4D84-9728-B2C0864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537-F446-4EA4-B2A4-D3156AB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434E-43AB-4BB6-87A3-355436B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7091-1B5A-474A-BD38-E6477A6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B719-0A67-4DDE-B40F-5F56BF3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26FE-CD76-4C40-BE6A-D7FCECE4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DC5D-C9DB-44A3-91BE-A5A695E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CF54-4DEF-42CF-BF5D-6DEF3BC9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52B9-9E3E-436A-A99B-37B8E3DF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B738-3DFB-49FB-9781-D4AB7D23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1D2F-C6C7-47D6-AA2F-E64E449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9339-9369-4E77-862B-DABE60A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3E1-CC02-4372-9D7B-D5E55BE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1C46-186C-4A89-8C50-E7828558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F95B-69BB-4158-83E7-673C47F7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B74E-CFE7-43E0-90C8-D74D07D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AD37-7FF6-44F6-927F-2DA117B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7A6D-8DC1-4257-B277-37E9B85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B201-DA1A-4EBB-9CE0-0A39373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480A-CF2A-4ACF-9B87-57FEB122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97AE-B1C0-4002-9359-B6796B32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06B6-5CE5-42AB-BB2C-9B225772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5F4E-9718-4E7C-8028-0CE82A0F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43C-6DAF-4696-8C53-92A552F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42A2-467B-4615-8E70-16CE102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458C-91F4-4279-9EC9-ACA397EF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941E-E47A-43F8-83E8-B76872E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C7B0-4D54-4828-9132-821DC190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C96F-3F71-45BC-9631-2044F39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7185-43A8-4E23-A639-B19AA59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C9ED-7539-47C4-9964-7BDFE03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45F7-4131-4EBB-B75E-7E9B579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47AA-0ABC-4521-ACC1-E9107EA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87F7A-4F82-44D1-847C-5E83A9E5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884-8848-40A3-AEF8-9FB3521E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6DB2-B44F-4D4A-A96B-65F20DE2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F8590-BACE-48AF-9FC6-3F3F9DB4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12C4F-BF24-46CA-8106-65E5F0D4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0DB8-B8E4-4CDF-9A79-1AC7F12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4A83-7397-42E9-8436-80E4823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B87C-9B8C-4444-B956-142E286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31C1-84E3-45AA-93E8-9348D6A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F3D8-C590-44EE-A723-83ED583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3FED-B5BA-4A1F-B161-F8DD120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2460-501A-4924-AC45-15651A7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B83-3BB1-4C8F-B52E-8063F508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14A3-A4E2-4D29-80E3-DCFF75C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3152-0243-4EFE-90CA-182B8AB5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9EFB-C100-4B9A-8A12-0B4ACB2F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FFC9-2372-4146-82B1-3EE31607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B610-6A3C-4268-A89C-FD1F535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E24DB-D43D-44C9-BD55-5FD1CA84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3F8E4-2ACF-41BD-8717-739C719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192A-DB49-47BC-91D0-59A5ED1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67D0-588E-47D6-BD3F-CB87034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F5780-5DFC-47A5-B6EC-0566FBDF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B21-4A78-4E34-B9B9-4EC1CB5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747B-E588-4B0A-8242-AAC3C3F0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C325-C58D-406A-A435-93FB92B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A189-51EE-4D70-B2E7-8784415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A42B-7F54-4A8A-BD42-AB7344B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86B5-E8B6-46AF-9EA0-3D4F5FD6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7B99-FD1C-4110-B070-0246C465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2092-FD00-4150-9875-5615909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67B9-D2BA-48AF-9261-6D2A08C4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7557F-E57C-4870-B8CB-D23ADAA4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27B0-598D-4CF2-96BE-504C782C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117-9BB6-4E71-A824-5714479A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B6A52-0E11-4B49-8AB5-805CD76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2CC0-8A05-4C55-B817-5ABDCDB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7B070-DCFA-4BB5-9209-2485602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34FF-5CC1-409E-91EC-FEE5D7F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A78A2-BD07-49D7-A83E-BEF3CA0D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102E-4973-44A2-ABCA-734762B5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C16C-D7C6-4D6F-BE9A-7D030845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1F58B-702C-48CE-9F88-8661F1DA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51A9D-9D3B-4920-83E5-8535979C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0B75-8A5D-460A-8CAE-855B8085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A0A-1DBE-4EDA-8010-EE499F6748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58CC-8AF5-4D4C-9A1E-954F114791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332-1518-4E08-B00B-5EF3840D4C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BAF7-B88D-4327-8390-62B47676DA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217-BEC7-48C4-8E62-936A779A30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7CD1-27A2-4F09-BF29-A683418AF4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7E3-5C0D-4169-A4B3-EE1DDF7B5F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F2C-6BBF-4AF1-8955-336D8CB3F3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2DB-3990-4EBF-B179-FACD0E897C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3EA2-B51E-4B87-BC2F-D8F8D03EE7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976A-5B5F-431B-AEE9-857884D1AC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84E8-C61B-4A2A-80B4-BAC64D6A67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5 Naše srdcia rad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ap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še srdcia rad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plňuje dne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ieseň vrúcna le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vďakou do neb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elý vesmír sláv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ho Tvorcu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 my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u vzda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jeho svätý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e len hudby tó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ni spevu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le Láska več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Bohu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ova spásnej prav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čuť chcem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tomto dome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svätý Pánov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64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je Božou láskou zjednotený ľu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mu dá čo sľúbil: požehnania prú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lnosť Ducha svoj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iek na bole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avý od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ok raz vo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8:13:08Z</dcterms:modified>
  <cp:revision>23</cp:revision>
  <dc:subject/>
  <dc:title>Je veľký náš Pán, on slávy je Kráľ Nech do všetkých strán  spev vrúcnych znie chvál.</dc:title>
</cp:coreProperties>
</file>